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A3E-E7B8-47A8-92E4-90A5A458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F4B-71DD-423D-A489-8F910319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BD2-E47D-43AF-BC9F-77895840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C6E-EB3F-4F27-A9BC-6E320669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FC04-82EB-44D5-9BE8-88EED777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8A5D-8C6B-4294-9305-D2BC4A7E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0D01-227D-4F61-B3A5-8DED8627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1B5D-70C3-4D4C-8C3D-FBA7403F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EA7B-7F3D-4148-88C9-DD15991D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0A21-6E75-4FCF-B4E8-57A1DEF2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2281-8CEE-455C-897D-710CFDF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2FC-3053-4A7D-8F58-97EB27ED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E7FB-773A-47F5-9928-8F7FA812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1C9A-7854-479E-9CFF-1B849FAF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218F-64AD-40D3-8266-3EC61265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1174-BEB4-40FD-B771-2B738D38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76CD-9404-4829-AD99-A653F8FD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9A1-3181-4A24-84DD-852A1B86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825-8E14-4E13-ACE9-A71677CD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DD2-6D6D-4DB8-9B67-9BBB0C45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34E-A278-4FB4-95A4-DA22D409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A60-37C8-4402-A937-8E20834F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5F2-C568-4FD1-9455-3EC7191A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6F2-706B-463D-8703-B31A5502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763B-5978-44B6-8130-1C6245679C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E20D-43A0-45EE-A042-AD0D3832C2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User/&#1080;&#1085;&#1092;&#1086;&#1088;&#1084;&#1072;&#1090;&#1080;&#1082;&#1072;_&#1095;1/1_6_3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Программное обеспечение компьютера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ция по инфор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Текстовые редакторы: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217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4306680" cy="2176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3546720" cy="2641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284720" y="3789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н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500720" y="4292640"/>
            <a:ext cx="4392360" cy="231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Графические редакто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2447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3984480" cy="254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08720" y="1628640"/>
            <a:ext cx="201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lDr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916360" y="4076640"/>
            <a:ext cx="4751280" cy="270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Электронные таблицы: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0812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6853320" cy="386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Музыкальные редакторы: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Fo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3562200" cy="3143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4998960" cy="351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УБД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6656400" cy="46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Браузер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00360" y="2565360"/>
            <a:ext cx="6059520" cy="408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33"/>
                </a:solidFill>
                <a:latin typeface="Times New Roman"/>
              </a:rPr>
              <a:t>Системные программы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выполняются вместе с прикладными и служат для управления ресурсами компьютера — центральным процессором, памятью, вводом-выводом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ограммы общего пользования, которые предназначены для всех пользователей компьютера. Системное программное обеспечение разрабатывается так, чтобы компьютер мог эффективно выполнять прикладные програм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ые программы управляют работой аппаратных средств и обеспечивают работу прикладных программ. Кроме операционных систем сюда относят программы, выполняющие разнообразные функции по обслуживанию: оптимизация дисков, восстановление случайно удаленной информации , поисковые и антивирусные программы, архивацию файлов, диагностические модули  и т.п.  В современном ПК очень многие из перечисленных программ включены в операционную программ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Системные программ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он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висн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йв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или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33"/>
                </a:solidFill>
                <a:latin typeface="Times New Roman"/>
              </a:rPr>
              <a:t>Операционная система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— это комплекс взаимосвязанных системных программ, назначение которого — организовать взаимодействие пользователя с компьютером и выполнение всех других программ.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005360"/>
            <a:ext cx="77724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-XP, Vista, 2003, 2002, Millenium, 2000, NT, 98, 95, 3.1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-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1844640"/>
            <a:ext cx="79218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и десятков тысяч системных программ особое место занимают операционные системы, которые обеспечивают управление ресурсами компьютера с целью их эффективного исполь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 функции операционной системы входит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диалога с пользовател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-вывод и управление дан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и организация процесса обработки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ие ресурсов (оперативной памяти и кэша, процессора, внешних устрой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к программ на выпол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возможные вспомогательные операции обслужи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ча информации между различными внутренними устройств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ая поддержка работы периферийных устройств (дисплея, клавиатуры, дисковых накопителей, принтера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овременный ПК – это совокупность двух составляющих: аппаратных средств и программного обеспечения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2960" y="1484280"/>
            <a:ext cx="7703280" cy="3599280"/>
            <a:chOff x="912960" y="1484280"/>
            <a:chExt cx="7703280" cy="3599280"/>
          </a:xfrm>
        </p:grpSpPr>
        <p:cxnSp>
          <p:nvCxnSpPr>
            <p:cNvPr id="101" name="_s53264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440680" y="2245680"/>
              <a:ext cx="720360" cy="207504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3262"/>
            <p:cNvCxnSpPr>
              <a:stCxn id="105" idx="0"/>
              <a:endCxn id="103" idx="2"/>
            </p:cNvCxnSpPr>
            <p:nvPr/>
          </p:nvCxnSpPr>
          <p:spPr>
            <a:xfrm flipH="1" flipV="1" rot="5400000">
              <a:off x="3367080" y="2246400"/>
              <a:ext cx="720360" cy="207396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53258"/>
            <p:cNvSpPr/>
            <p:nvPr/>
          </p:nvSpPr>
          <p:spPr>
            <a:xfrm>
              <a:off x="2986200" y="1484280"/>
              <a:ext cx="3555360" cy="14396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3259"/>
            <p:cNvSpPr/>
            <p:nvPr/>
          </p:nvSpPr>
          <p:spPr>
            <a:xfrm>
              <a:off x="912960" y="3643920"/>
              <a:ext cx="3555360" cy="14396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ппаратное обеспеч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53261"/>
            <p:cNvSpPr/>
            <p:nvPr/>
          </p:nvSpPr>
          <p:spPr>
            <a:xfrm>
              <a:off x="5060880" y="3643920"/>
              <a:ext cx="3555360" cy="14396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ограммное  обеспеч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Softwar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4360" y="5229360"/>
            <a:ext cx="80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од 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программным обеспечением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(Software) понимается совокупность программ, выполняемых вычислительной систе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В зависимости от количества одновременно обрабатываемых задач и числа пользователей, которых могут обслуживать ОС, различают четыре основных класса операционных систем: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опользовательские однозадачные, которые поддерживают одну клавиатуру и могут работать только с одной (в данный момент) задач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опользовательские однозадачные с фоновой печатью, которые позволяют помимо основной задачи запускать одну дополнительную задачу, ориентированную, как правило, на вывод информации на печать. Это ускоряет работу при выдаче больших объёмов информации на печ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опользовательские многозадачные, которые обеспечивают одному пользователю параллельную обработку нескольких задач. Например, к одному компьютеру можно подключить несколько принтеров, каждый из которых будет работать на "свою" задач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пользовательские многозадачные, позволяющие на одном компьютере запускать несколько задач нескольким пользователям. Эти ОС очень сложны и требуют значительных машин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Сервисные программ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on Command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orton Navig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omma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5207040" cy="335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райве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айверы – это специальные программы, которые обеспечивают нормальную работу внешних устройств, без них процессор просто не поймет сигналы, поступающие к нему. Существуют драйве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виа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ит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т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тилиты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это специальные программы, которые упрощают или ускоряют работу отдельных устройств или процессора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раммы контроля, тестирования и диагностики, которые используются для проверки правильности функционирования устройств компьютера и для обнаружения неисправностей в процессе эксплуатации; указывают причину и место неисправност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раммы-драйверы, которые расширяют возможности операционной системы по управлению устройствами ввода-вывода, оперативной памятью и т.д.; с помощью драйверов возможно подключение к компьютеру новых устройств или нестандартное использование имеющихс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раммы-упаковщики (архиваторы), которые позволяют записывать информацию на дисках более плотно, а также объединять копии нескольких файлов в один архивный фай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тивирусные программы, предназначенные для предотвращения заражения компьютерными вирусами и ликвидации последствий заражения вируса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раммы оптимизации и контроля качества дискового пространства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раммы восстановления информации, форматирования, защиты данных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ммуникационные программы, организующие обмен информацией между компьютера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раммы для управления памятью, обеспечивающие более гибкое использование оперативной памят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раммы для записи CD-ROM, CD-R и многие друг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Инструментальные программы (языки программирования)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Bas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т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б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33"/>
                </a:solidFill>
                <a:latin typeface="Times New Roman"/>
              </a:rPr>
              <a:t>Инструментальные программные средства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— это программы, которые используются в ходе разработки, корректировки или развития других прикладных или системных программ.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-то они были единственными в компьютере, но и сегодня их роль очень велика, так как именно они являются средством для разработки огромного количества прикладных програ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стема программ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это система для разработки новых программ на конкретном языке програм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0755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овременные системы программирования обычно предоставляют пользователям мощные и удобные средства разработки программ. В них входят: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илятор или интерпрета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грированная среда разработ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едства создания и редактирования текстов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ширные библиотеки стандартных программ и фун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ладочные программы, т.е. программы, помогающие находить и устранять ошибки в програм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дружественная" к пользователю диалоговая сре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оконный режим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щные графические библиотеки; утилиты для работы с библиоте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троенный ассембл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троенная справочная служб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угие специфические особ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sc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зык Паскаль был разработан в 1970г. Никласом Виртом как язык обучения студентов программированию.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Паскаль вырабатывает навыки соблюдения хорошего строгого стиля программирования (называемого структурным программированием), упрощающего разработку сложных программ.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В своем первоначальном виде Паскаль имел довольно ограниченные возможности, но расширенный вариант этого языка – Turbo Pascal, является очень мощным языком программ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ска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Summa; 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Type Mas = Array [1..100] of Real; 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Var A  : Mas; 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     i, n: Integer; 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    S   : Real; 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 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ReadLn(n); 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For i : = 1 To 10 Do 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 ReadLn(A[i]); 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S : = 0; 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For i : = 1 To 10 Do 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 S : = S + A[i]; 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WriteL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++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 Си (разработан Деннисом Ритчи в 1972 г.) соединяет свойства языка высокого уровня с возможностями эффективного использования ресурсов компьютера, которые обычно достигаются только при программировании на языке Ассемблера.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Си не очень прост в изучении и требует тщательности в программировании, но позволяет создавать сложные и весьма эффективные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include &lt;stdio.h&gt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main(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{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float a[100],s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int i,n = 100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for (i = 0; i &lt;= n; i++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 get(a[i]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for (i = 0; i &lt;= n; i++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 s = s + a[i]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printf("s = % f \ n", s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}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s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 Бейсик был создан в 1965 г. Дж. Кемени и Т.Курцем как язык для начинающих, облегчающий написание простых программ. Существуют сотни различных версий Бейсика – от очень простых до усовершенствованных, содержащих множество дополнительных языковых конструкций. Бейсик очень популярный язык программир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йс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INPUT "N = "; N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DIM A(N)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FOR I = 1 TO N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  PRINT "A("; I; ") =";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  INPUT A(I)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NEXT I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S = 0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FOR I = 1 TO N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 S = S + A(I)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NEXT I 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 PRINT 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"; S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8137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хнология проектирования программ (например, нисходящее проектирование, структурное и объектно-ориентированное проектирование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тоды тестирования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тоды доказательства правильности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ализ качества работы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кументирование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работка и использование программных средств, облегчающих процесс проектирования программного обеспечения,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54885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раммное обеспечение современных компьютеров включает миллионы программ — от игровых до науч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10920" y="260280"/>
            <a:ext cx="8785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 программному обеспечению (ПО) относится также вся область деятельности по проектированию и разработке ПО:</a:t>
            </a:r>
            <a:br>
              <a:rPr sz="2600"/>
            </a:b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lph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к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Borland Delph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Дельфи) — блестящий наследник семейства компиляторов Borland Pascal, предоставляющий качественные и очень удобные средства визуальной разработки. Его исключительно быстрый компилятор позволяет эффективно и быстро решать практически любые задачи прикладного программ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isual Bas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к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Microsoft Visual Basi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удобный и популярный инструмент для создания Windows-программ с использованием визуальных средств. Содержит инструментарий для созда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гра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зент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Times New Roman"/>
              </a:rPr>
              <a:t>Конец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Классификация программного обеспече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прикладные программы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непосредственно обеспечивающие выполнение необходимых пользователям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стемные программы, выполняющие различные вспомогательные функции,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правление ресурсами компью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здание копий используем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ерка работоспособности устройств компью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дача справочной информации о компьютере и др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струментальные программные системы, облегчающие процесс создания новых программ для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042920" y="0"/>
            <a:ext cx="7704000" cy="3384000"/>
            <a:chOff x="1042920" y="0"/>
            <a:chExt cx="7704000" cy="3384000"/>
          </a:xfrm>
        </p:grpSpPr>
        <p:cxnSp>
          <p:nvCxnSpPr>
            <p:cNvPr id="113" name="_s90116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904720" y="343440"/>
              <a:ext cx="677520" cy="2696760"/>
            </a:xfrm>
            <a:prstGeom prst="bentConnector3">
              <a:avLst>
                <a:gd name="adj1" fmla="val 127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90117"/>
            <p:cNvCxnSpPr>
              <a:stCxn id="117" idx="0"/>
              <a:endCxn id="115" idx="2"/>
            </p:cNvCxnSpPr>
            <p:nvPr/>
          </p:nvCxnSpPr>
          <p:spPr>
            <a:xfrm flipV="1">
              <a:off x="4894920" y="1353240"/>
              <a:ext cx="2880" cy="67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90118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3207960" y="343440"/>
              <a:ext cx="677520" cy="2696760"/>
            </a:xfrm>
            <a:prstGeom prst="bentConnector3">
              <a:avLst>
                <a:gd name="adj1" fmla="val 127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90119"/>
            <p:cNvSpPr/>
            <p:nvPr/>
          </p:nvSpPr>
          <p:spPr>
            <a:xfrm>
              <a:off x="3739320" y="0"/>
              <a:ext cx="2311200" cy="13536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ограммное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беспеч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90120"/>
            <p:cNvSpPr/>
            <p:nvPr/>
          </p:nvSpPr>
          <p:spPr>
            <a:xfrm>
              <a:off x="1042920" y="2030400"/>
              <a:ext cx="2311200" cy="13536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истем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рограммы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90121"/>
            <p:cNvSpPr/>
            <p:nvPr/>
          </p:nvSpPr>
          <p:spPr>
            <a:xfrm>
              <a:off x="3739320" y="2030400"/>
              <a:ext cx="2311200" cy="13536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риклад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рограммы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90122"/>
            <p:cNvSpPr/>
            <p:nvPr/>
          </p:nvSpPr>
          <p:spPr>
            <a:xfrm>
              <a:off x="6435720" y="2030400"/>
              <a:ext cx="2311200" cy="13536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нструменталь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рограммы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00000" y="3429000"/>
            <a:ext cx="223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ерацио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ервис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рай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тил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3429000"/>
            <a:ext cx="360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екстовые ред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рафические ред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лектронн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зыкальные ред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фессиональ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У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лькуля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правоч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еб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рауз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429000"/>
            <a:ext cx="196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mbler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тр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б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г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075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 построении классификации ПО нужно учитывать тот факт, что стремительное развитие вычислительной техники и расширение сферы приложения компьютеров резко ускорили процесс эволюции программного обеспе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раньше можно было по пальцам перечислить основные категории ПО — операционные системы, трансляторы, пакеты прикладных программ, то сейчас ситуация коренным образом изменила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итие ПО пошло как вглубь (появились новые подходы к построению операционных систем, языков программирования и т.д.), так и вширь (прикладные программы перестали быть прикладными и приобрели самостоятельную ценност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отношение между требующимися программными продуктами и имеющимися на рынке меняется очень быстро. Даже классические программные продукты, такие, как операционные системы, непрерывно развиваются и наделяются интеллектуальными функциями, многие из которых ранее относились только к интеллектуальным возможностям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оме того, появились нетрадиционные программы, классифицировать которые по устоявшимся критериям очень трудно, а то и просто невозможно, как,  например, программа —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электронный собеседник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На сегодняшний день можно сказать, что более или менее определённо сложились следующие группы программного обеспечения: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ерационные системы и оболоч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стемы программирования (трансляторы, библиотеки подпрограмм, отладчики и т.д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струментальные сист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тегрированные пакеты програ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намические электронные табл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стемы машинной граф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стемы управления базами данных (СУБ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кладное программное обеспе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Прикладная программа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— это любая конкретная программа, способствующая решению какой-либо задачи в пределах данной проблемной области.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, там, где на компьютер возложена задача контроля за финансовой деятельностью какой-либо фирмы, прикладной будет программа подготовки платежных ведом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кладные программы могут носить и общий характер, например, обеспечивать составление и печатание документов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кладные программы могут использоваться либо автономно, то есть решать поставленную задачу без помощи других программ, либо в составе программных комплексов или пак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ектр прикладного обеспечения очень широк: от простых программ для начинающих по решению несложных задач до мощных профессиональных  издательских систем, научных комплексов, сложнейших систем массового обслуж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рикладные программ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е ред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е ред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ые ред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ы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ькуля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авоч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узе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5:34:50Z</dcterms:created>
  <dc:creator>User</dc:creator>
  <dc:description/>
  <dc:language>en-US</dc:language>
  <cp:lastModifiedBy>User</cp:lastModifiedBy>
  <dcterms:modified xsi:type="dcterms:W3CDTF">2011-09-25T18:11:50Z</dcterms:modified>
  <cp:revision>2</cp:revision>
  <dc:subject/>
  <dc:title>Программное обеспечение компьютера </dc:title>
</cp:coreProperties>
</file>